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428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0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4280" y="93722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49C7D6-D9DB-4640-A32A-BA7A173A1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997FC3-3B59-476E-9BE2-D628DF9F7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44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а: Наличие площадки на открытом воздухе, планировка здания, естественное и искусственное освещение, учебная мебель, ее расстановка, рассадка ребят, правильное планирование работы за компьютерами, школьное питание, медицинское обеспечение детей - все это очень важно и будет учтено в новом докумен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к школ, как по форме, так и по содержанию, должен значительно измениться. Мы получим реальную отдачу, если учиться в школе будет и увлекательно, и интересно, если она станет центром не только обязательного образования, но и самоподготовки, занятий творчеством и спорт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школьной повседневности оказывается важнейшим фактором образования – не менее значимым, чем содержание учебников, квалификация учителей и оснащенность школьных классов и лабора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уществует не для взрослых, а для детей. Детское восприятие – всегда целостное, синкретичное. Дети не могут, например, отделить урок, на котором учитель говорит правильные слова о чистоте и гигиене, от той пыли и грязи, с которой они сталкиваются в школьной ре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есовпадении «урока учителя» и «урока реальности» школьник попадает в ситуацию когнитивного диссонанса, недоумения, нестерпимого разрыва, ему требуется этот разрыв преодолеть и восстановить целостное понимание. Результат этого процесса – вывод об иллюзорности «урока учителя» по сравнению с «уроком реальности», особенно если это происходит в обстановке убогой и запущенной шко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CBA233-483B-4120-A883-88EC4D417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5BD6B7-1AA6-4B2F-B109-AAABC8BEC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BC0C1-D760-4F3E-A4E6-A3944ABA4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75CA3E-7F28-46FD-A63B-F7E16944E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2C23AF-592A-4AFF-A4B2-66BB3A9B4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4F35C8-8F7A-4A3F-B32C-38A5A40FC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1800E-95FB-4194-BAC4-A52959967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B65618-C83E-45B4-815B-92C823B8D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развитию и совершенствованию школьной инфраструктуры мы представили по уровням управления образования; в основе действий руководителей  всех уровней  - управленческие функции: информационно-аналитическая, 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ово-прогностическая деятельность, организационно-исполнительская деятельность, контрольно-оценочная деятельность, регулятивно-коррекционная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B1AEF0-5DB2-448A-9373-EC511C093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D9FD26-2EC6-4812-BDAA-6C5E86B47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12CD9-E337-47F3-B0D1-86C9B43C7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школьная инфраструктура многокомпонентна. Значительную роль в ней играет образовательная среда, эффективное использование возможностей которой позволяет создать комфортные условия для обучения и воспитания де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алантливых (следует продолжить развивать сеть образовательных учреждений круглосуточного пребывания, организовывать слеты, летние и зимние школы, конференции, семинары и другие мероприятия; деятельность заочных и очно-заочных школ; осваивать программы профильного обучения по самым различным направления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ытывающих трудности в обуч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детей с ограниченными возможностями здоровья в новой стратегии «Наша новая школа» предусмотрено создание адаптивной безбарьерно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овия  для развития шко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здание кабинета лега-технологий, игровых площадок для динамических игр в рекреациях шко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рекреаций начальной школы для проведения подвижных игр на переменах (те же ученики, которые на перемене нуждаются в спокойном отдыхе, могут провести время в уютных зеленых рекреациях, сидя на мягкой мебел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я работы школьного телевидения, радиоуз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еленая зона, рядом с которой расположена шко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ажный рекреационный ресурс здоровьесбере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ортивные площад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ая среда представляет собой совокупность локальных сред, обеспечивающих ребенку познание и развитие; основным элементом образовательной среды выступает средовой ресурс, представленный в виде средовых влияний и средов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бразовательная среда определяется совокупностью локальных сред, в которых функционирует ребенок: 1) я – ситуация; 2) семья; 3) класс (группа); 4) учреждение образования; 5) двор, микрорайон и др. При этом такое понятие как «образовательное пространство» рассматривается как одна из характеристик образовательно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образовательной среды с точки зрения характера обеспечиваемых ею средовых влияний (насколько они имеют развивающий эффект, учитывают разнообразные потребности и интересы личности ребенка, способствуют ее жизненному самоопределению и самореализации) позволяет нам говорить 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вивающей, личностно ориентированной сре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образовательной среды с точки зрения наличия в ней условий для успешного присвоения элементов культуры каждым ребенком, с учетом его возрастных особенностей, внутренних ресурсов и возможностей позволяет нам говорить об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даптивной образовательной сре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образовательной среды с точки зрения наличия в ней условий, способствующих профилактике нежелательных последствий влияния психофизических нарушений на жизнедеятельность ребенка, позволяет нам говор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 безбарьерной образовательной сре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D92B72-D1A6-4A12-9F40-9E45BA24B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4E1D30-6B3E-4CA4-B957-0229A9303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E23FF-A006-43F0-A118-0DB801F82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AA76EF-CA92-485C-A4B0-FA171F002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44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AE5EA9-5A7F-4F7C-828A-C844CEA10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еханизмы создания адаптивной безбарьерной среды для обучения детей с ограниченными возможностями здоровь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адаптивно-развивающей безбарьерной среды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специальные лифты и туалеты, пандусы, спе-циальное оборудование с учетом нарушений обучающихся, создание центров для дистанционной, модульной и коммуникационной форм обучения и др.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- создание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системы динамического психолого-педагогического и медико-социального, а также юридического и волонтерского сопровождения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етей ОВЗ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- разработка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нормативов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рганизации учебного и реабилитационного процессов, материально-технического, кадрового, специального методического и реабилитационного сопровождения, механизмов лицензирования и сертификации образовательно-реабилитационной деятельности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- разработка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мер по поддержке интегрированного обучения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иц с ограниченными возможностями здоровь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356D3F-10BE-45F0-91F9-C2ABDA8AE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 «Инфраструктуры обеспечения образовательной деятельности» предполагает материальную, методическую и организационную составляющие и требует рассмотрения следующих вопро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составляющая инфраструкту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правлена не только на разработку новых принципов проектирования, строительства школ, но и на изменение качества условий. Школьное пространство должно быть функционально и эстетически грамотно спроектировано, обеспечивать физическую и психологическую безопасность, не должно содержать рисков для здоровья. Для поддержания необходимой современной инфраструктуры школы необходимо повысить качество сервисного обслуживания самого здания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ическую составляющую инфраструкту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переориентировать на поддержку деятельности каждого учителя: наличие сервисов с доступом к различным методическим, информационным и консультационным ресурсам, личностно-ориентированный подход к методической работе в школе, анализу урока, индивидуальной поддержке уч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иально-образовательная инфраструктур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в себя школьное и внешкольное пространство и предполагает создание интегрированного пространства образования для разных категорий детей (школы, учреждения дополнительного образования, спортивные площадки и другие социальные сферы). Формирование городской социально-образовательной инфраструктуры должно быть направлено на  удовлетворение, формирование и обеспечение личностных потребностей детей, реализацию деятельностно-компетентностного под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. Организационная составляющая инфраструкту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правлена на обеспечение высших образовательных достижений учителя и ученика, личностного и профессионального роста (ОДИ, городские проекты, конкурсы, олимпиады, технопарки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ую систему поиска, поддержки и сопровождения талантливых детей. Именно из них в будущем вырастут новые, известные миру российские конструкторы, ученые, деятели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D6F36C-4F91-42FA-A361-D3A83F01E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8EAD88-D3CB-46DA-9F47-C09ED1CC2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2C5561-F56E-4801-BD80-45B0CCC74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58BB62-610C-4156-B618-CB59CB327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24280" y="937260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321C6B-48D2-4E9B-A448-E439A30FD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6440" y="4686480"/>
            <a:ext cx="5403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понимать, что в современных условиях подлинно высокое качество образования практически не может быть обеспечено за счет потенциала отдельного учреждения. Создание интегрированного образовательного ресурса через организацию сетевого партнерства и межведомственного взаимодействия образования, культуры, спорта и других секторов социальной сферы предоставляет потребителю несравненно более широкие возможности. При этом очевидно, что рационализации использования образовате-льных ресурсов территории способствует специализация учреждений, их кооперация и интеграция, внед-рение новых вариативных моделей образовательных учреж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ь это не столько конструкция, скольк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лу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ую разрабатывают те, кто хочет сократить время и расстояние для достижения результата. Основным содержанием понятия сети является синхронизация процессов для получения запланированных результатов, итогов, состояний. Причем такая синхронизация, которая повышает скорость и связность целого, называемого сеть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сеть это «процесс над процессами». Услуга имеет свое строение, конструкцию, организ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ь - это конструкция, которая такую синхронизацию обеспеч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сети, как конструкции, состав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ношений (включая управление, распределение/присвоение ответственности, отношений собственности, предметов ведения, регламентов принятия решений, схемы финансирова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ённость работ по участникам се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лы се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е и организационно-техническое обесп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Для чего создается сеть?  Некоторые примеры приведены на слайд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условием выстраивания любой сети является мобильность её участников. Мобильность, понимаемая как движение по индивидуальной траектории с удобной для конкретного учащегося, скоростью, за удобное или нужное для него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C10-E5C8-4F66-80AB-8414A86D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507-075F-49D8-B5C9-8340C2C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FA3-038A-4F49-87FD-961FD916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209-58B2-425B-BB4A-7DF4B600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940-89E1-4B2E-935B-7A37967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5BA-BDA1-411B-BE50-AE403E30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20D-C9C1-4B4C-B2E1-133C73DB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1FA-F5E9-475F-BF78-5BCC525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BE3-BF9F-4D90-8138-E25F8D6E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0BD-C4E5-4473-9368-C2E35FA3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819-3FA9-4B44-8D32-0F8DF5E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4C4-6DA5-4095-91D7-3D206FC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720" indent="-203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5600" indent="-203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348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348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348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5F4-69CA-40DE-B8A3-65A08FF5C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5FE58D7-6AE5-45E3-B1EA-44F9EE9AF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36360" y="-28440"/>
            <a:ext cx="9216720" cy="29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4520" y="42840"/>
            <a:ext cx="1689120" cy="1311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968200"/>
            <a:ext cx="8748720" cy="146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аша новая школа: современная шко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09080" y="1484280"/>
            <a:ext cx="3583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900" spc="-1" strike="noStrike">
                <a:solidFill>
                  <a:srgbClr val="003300"/>
                </a:solidFill>
                <a:latin typeface="Arial"/>
              </a:rPr>
              <a:t>ТЮМЕНСКИЙ ОБЛАСТНОЙ ГОСУДАРСТВЕННЫЙ ИНСТИТУТ</a:t>
            </a:r>
            <a:br>
              <a:rPr sz="900"/>
            </a:br>
            <a:r>
              <a:rPr b="1" lang="ru-RU" sz="900" spc="-1" strike="noStrike">
                <a:solidFill>
                  <a:srgbClr val="003300"/>
                </a:solidFill>
                <a:latin typeface="Arial"/>
              </a:rPr>
              <a:t>РАЗВИТИЯ РЕГИОНАЛЬНОГО ОБРАЗОВАНИЯ (ТОГИРРО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203640" y="5842080"/>
            <a:ext cx="554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илованова Наталья Геннадьевн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оректор ТОГИРРО, д.пед. 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346D9E8-6D05-40E3-9754-68E9E2390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665280" y="873000"/>
            <a:ext cx="752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школьников, обучающихся в общеобразовательных учреждениях, отвечающих современным требованиям к условиям осуществл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63520" y="1932120"/>
          <a:ext cx="8543880" cy="4297320"/>
        </p:xfrm>
        <a:graphic>
          <a:graphicData uri="http://schemas.openxmlformats.org/drawingml/2006/table">
            <a:tbl>
              <a:tblPr/>
              <a:tblGrid>
                <a:gridCol w="693720"/>
                <a:gridCol w="5988240"/>
                <a:gridCol w="1861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температурного режима в соответствии с Сан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аботающей системы холодного и горячего водоснабжения (включая локальные системы), обеспечивающей необходимый санитарный и питьевой режим в соответствии с СанП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аботающей системы канализации, а также оборудованных в соответствии с СанПиН туал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оборудованных аварийных выходов, необходимого количества средств пожаротушения, подъездных путей к зданию, отвечающих всем требованиям пожарной безопас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578EF6-2E0A-494D-9E9F-0B9C2D2AB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665280" y="8730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36600" y="1384200"/>
          <a:ext cx="8543880" cy="5121360"/>
        </p:xfrm>
        <a:graphic>
          <a:graphicData uri="http://schemas.openxmlformats.org/drawingml/2006/table">
            <a:tbl>
              <a:tblPr/>
              <a:tblGrid>
                <a:gridCol w="693720"/>
                <a:gridCol w="59878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электропроводки здания современным требованиям безопас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реждения собственной (или на условиях договора пользования) столовой или зала для приёма пищи площадью в соответствии с СанП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реждения собственного (или на условиях договора пользования) безопасного и пригодного для проведения уроков физической культуры спортивного зала площадью не менее 9х18 м при высоте не менее 6 м с оборудованными раздевалками, действующими душевыми комнатами и туал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реждения действующей пожарной сигнализации и автоматической системы оповещения людей при пож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CF2C67B-B2E6-444F-9337-7C1E26BB1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65280" y="7272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440" y="1092240"/>
          <a:ext cx="8690040" cy="5583240"/>
        </p:xfrm>
        <a:graphic>
          <a:graphicData uri="http://schemas.openxmlformats.org/drawingml/2006/table">
            <a:tbl>
              <a:tblPr/>
              <a:tblGrid>
                <a:gridCol w="593640"/>
                <a:gridCol w="6202440"/>
                <a:gridCol w="1893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 учреждении действующей охраны (кнопка экстренного вызова милиции, охранники или сторож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 учреждении кабинета физики с подводкой низковольтного электропитания к партам учащихся (включая независимые источники) и лаборантской (для школ, имеющих классы старше 7-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 учреждении кабинета химии с вытяжкой и подводкой воды к партам учащихся и лаборантской (для школ, имеющих классы старше 7-г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устроенность пришкольной территории (озеле-нение территории, наличие оборудованных мест для отдых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горячего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 здании, где расположено учреждение, соб-ственного (или на условиях договора пользования) лицензированного медицинского кабин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4C0F9E9-7FB0-4417-BFA1-646602E28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65280" y="8730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6600" y="1384200"/>
          <a:ext cx="8543880" cy="5303880"/>
        </p:xfrm>
        <a:graphic>
          <a:graphicData uri="http://schemas.openxmlformats.org/drawingml/2006/table">
            <a:tbl>
              <a:tblPr/>
              <a:tblGrid>
                <a:gridCol w="693720"/>
                <a:gridCol w="59878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реждения комплекта лицензионного или свободно распространяемого общесистемного и прикладного программного обеспечения (операционная система, офисные программы (редакторы текстов, таблиц), СУБД, навигаторы) для каждого установленного компьюте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реждения (или на условиях договора пользования) оборудованной территории для реализации раздела Лёгкая атлетика программы по физической культуре (размеченные дорожки для бега со специальным покрытием, оборудованный сектор для метания и прыжков в длину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по каждому из разделов физики (электродинамика, термодинамика, механика, оптика, ядерная физика) лабораторных комплектов (в соответствии с общим количеством лабораторных работ согласно программе по физике в 7-11 классах) в количестве не менее m/2 + 1 (где m - проектная наполняемость классов в соответствии с предельной численностью контингента школы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ED70B5-2B2E-4FE7-9EE0-3BD40FA67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665280" y="8730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1384200"/>
          <a:ext cx="8543880" cy="5953320"/>
        </p:xfrm>
        <a:graphic>
          <a:graphicData uri="http://schemas.openxmlformats.org/drawingml/2006/table">
            <a:tbl>
              <a:tblPr/>
              <a:tblGrid>
                <a:gridCol w="693720"/>
                <a:gridCol w="59878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по каждому из разделов химии (неорганическая химия, органическая химия) лабораторных комплектов оборудования и препаратов (в соответствии с общим количеством лабораторных работ согласно программе по химии в 7-11 классах) в количестве m/2 + 1 (где m - проектная наполняемость классов в соответствии с предельной численностью контингента школ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по каждому из разделов биологии (природоведение (окружающий мир), ботаника, зоология, анатомия, общая биология) лабораторных комплектов (в соответствии с общим количеством лабораторных работ согласно программе по биологии в 5-11 классах) в количестве m/2 + 1 (где m - проектная наполняемость классов в соответствии с предельной численностью контингента школ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4D42118-4662-479F-B187-2A978BFEA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65280" y="8730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36600" y="1384200"/>
          <a:ext cx="8543880" cy="5334120"/>
        </p:xfrm>
        <a:graphic>
          <a:graphicData uri="http://schemas.openxmlformats.org/drawingml/2006/table">
            <a:tbl>
              <a:tblPr/>
              <a:tblGrid>
                <a:gridCol w="693720"/>
                <a:gridCol w="59878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сех карт в соответствии с реализуемыми программами по географии или наличие лицензионного демонстрационного компьютерного программного обеспечения по каждому из разделов географ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всех карт в соответствии с реализуемыми программами по истории или лицензионного демонстрационного компьютерного программного обеспечения по каждому из курсов истор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скоростного выхода в Интернет (скорость канала не ниже 128 кб/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обеспеченность образовательного процесса учителями в соответствии со специаль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программ профильного обучения и предпрофильной подготовки учителями не ниже 2 квалификационной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отсутствуют классы наполняемостью более 2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357D7BB-E822-4F7A-A29D-03A7E1F32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665280" y="873000"/>
            <a:ext cx="75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36600" y="1384200"/>
          <a:ext cx="8543880" cy="2378160"/>
        </p:xfrm>
        <a:graphic>
          <a:graphicData uri="http://schemas.openxmlformats.org/drawingml/2006/table">
            <a:tbl>
              <a:tblPr/>
              <a:tblGrid>
                <a:gridCol w="693720"/>
                <a:gridCol w="59878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е достигнутое значение на …  (%/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школьников, обучающихся в общеобразовательных учреждениях, в которых директор имеет управленческую подготовку, подтвержденную документами о профессиональном образовании (специальность менеджер) и/или профессиональной переподготов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7792FC0-5CCF-4BD3-91D9-B47F29793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299880" y="1397160"/>
          <a:ext cx="8361360" cy="4668840"/>
        </p:xfrm>
        <a:graphic>
          <a:graphicData uri="http://schemas.openxmlformats.org/drawingml/2006/table">
            <a:tbl>
              <a:tblPr/>
              <a:tblGrid>
                <a:gridCol w="2787840"/>
                <a:gridCol w="2786040"/>
                <a:gridCol w="278748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анали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нка информации по реализации направления «Современная школьная инфраструкту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нение и ведение банка информ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еализации направления «Современная школьная инфраструкту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нение и ведение банка информ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еализации направления «Современная школьная инфраструкту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оказатели мониторинга ОЦП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направлением «Современная школьная инфраструктура» (информатизация образовательного процесса; занятость школьников и педагогов во 2-ой половине дня; базовые сельские школы как ресурсные центры; здоровьесберегающие технологии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систематизацию, хранение и использование сравнительных диагностических данных для принятия управленчески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ь в школьный мониторинг качества образования показатели, отражающие деятельность ОУ по совершенствованию школьной инфра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EC7D45B-851E-44A4-93BA-6BF87A7FE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263520" y="982800"/>
          <a:ext cx="8543880" cy="5895720"/>
        </p:xfrm>
        <a:graphic>
          <a:graphicData uri="http://schemas.openxmlformats.org/drawingml/2006/table">
            <a:tbl>
              <a:tblPr/>
              <a:tblGrid>
                <a:gridCol w="2847960"/>
                <a:gridCol w="2847960"/>
                <a:gridCol w="284796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о-прогностическая деятельность. Организационно-исполнитель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ь ОУ с учетом современных требовани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здание возрастных школ; развитие предшкольного образования; создание и развитие  ОУ как ресурсных центров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сети ОУ в плане созда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возрастной ступен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лан работы ОУ включить раздел по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ю школьной инфра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нормативно-правовое обеспечение развит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евых форм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и развитие субъектов сетевого взаимодействия, соорганизация стратегических целей и потребностей во взаимодей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ть различные формы  предшкольного об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ую сеть содействия развитию сельских муниципальных образователь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нировать опытно-экспериментальную работу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ффективному использованию возможностей школьной инфра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группы учителей по эффективному использованию возможностей образовательной сред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одаренных уча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спользованию ИК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даптивной безбарьерной среды для учащихся ОВЗ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спользованию здоровьесберегающи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409F31B-807B-485A-B2B5-6B89B48EF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299880" y="544680"/>
          <a:ext cx="8361360" cy="6140160"/>
        </p:xfrm>
        <a:graphic>
          <a:graphicData uri="http://schemas.openxmlformats.org/drawingml/2006/table">
            <a:tbl>
              <a:tblPr/>
              <a:tblGrid>
                <a:gridCol w="2787840"/>
                <a:gridCol w="2786040"/>
                <a:gridCol w="278748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о-прогностическая деятельность. Организационно-исполнитель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у по выявлению и распространению опыта работы О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ценке качества и эффективности опыта по эффективному использованию возможностей образовательной среды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ое обучение как профильную дифференциацию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расширять практику разработки индивидуальных образовательных маршру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1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сетевом взаимодействии ОУ и учреждений социальной сферы п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еализации направления (включить аспект по совершенствованию школьной инфраструкту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ое сопровождение О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вершенствованию школьной инфра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в каждом ОУ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а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лотные О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обобщения, систематизации и распространения наработанного в области опыта по совершенство-ванию школьной инфраструктуры; для организации повышения квалификации педагогических кадров на данных площад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ть четкое распре-деление  функциональных обя-занностей специалистов органов управления по реализации образо-вательной инициативы. Обес-зпечить работу по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и и кооперации различного типа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ный подход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правлении современной шко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AAC5B80-D929-461F-9F52-D4FE18040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67"/>
          <p:cNvGrpSpPr/>
          <p:nvPr/>
        </p:nvGrpSpPr>
        <p:grpSpPr>
          <a:xfrm>
            <a:off x="227160" y="398520"/>
            <a:ext cx="8397720" cy="6207120"/>
            <a:chOff x="227160" y="398520"/>
            <a:chExt cx="8397720" cy="6207120"/>
          </a:xfrm>
        </p:grpSpPr>
        <p:sp>
          <p:nvSpPr>
            <p:cNvPr id="58" name="AutoShape 10"/>
            <p:cNvSpPr/>
            <p:nvPr/>
          </p:nvSpPr>
          <p:spPr>
            <a:xfrm>
              <a:off x="5854680" y="2224080"/>
              <a:ext cx="2046600" cy="38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доровьесберегающ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>
              <a:off x="1224720" y="1139400"/>
              <a:ext cx="6624360" cy="938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бразовательная сред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– это совокупность условий, организуемых администра-цией школы, всем педагогическим коллективом при обязательном участии самих учащихся и их родителей с целью создания оптимальных условий для всесторон-него развития личности учащихся и педагог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>
              <a:off x="1589400" y="2224080"/>
              <a:ext cx="1754640" cy="38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омфорт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1378800" y="2700000"/>
              <a:ext cx="2434320" cy="38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эмоционально насыщ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1407240" y="3235320"/>
              <a:ext cx="2624400" cy="589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сширяющая познавательные возмож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3120480" y="4159440"/>
              <a:ext cx="3754440" cy="597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утентичная: обеспечивающая благоприятный режим, ритм и темп жизне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7"/>
            <p:cNvSpPr/>
            <p:nvPr/>
          </p:nvSpPr>
          <p:spPr>
            <a:xfrm>
              <a:off x="4678560" y="3413880"/>
              <a:ext cx="3144240" cy="589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имулирующая различные виды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8"/>
            <p:cNvSpPr/>
            <p:nvPr/>
          </p:nvSpPr>
          <p:spPr>
            <a:xfrm>
              <a:off x="5198400" y="2700000"/>
              <a:ext cx="2779920" cy="53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буждающая к самостоятельности и творчеств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6"/>
            <p:cNvSpPr/>
            <p:nvPr/>
          </p:nvSpPr>
          <p:spPr>
            <a:xfrm>
              <a:off x="605160" y="5693040"/>
              <a:ext cx="1302120" cy="85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рганиза-ция подвоза учащих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7"/>
            <p:cNvSpPr/>
            <p:nvPr/>
          </p:nvSpPr>
          <p:spPr>
            <a:xfrm>
              <a:off x="4806000" y="5546880"/>
              <a:ext cx="1568880" cy="1058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Адаптивная безбарьерная среда для детей ОВ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8"/>
            <p:cNvSpPr/>
            <p:nvPr/>
          </p:nvSpPr>
          <p:spPr>
            <a:xfrm>
              <a:off x="6624720" y="5546880"/>
              <a:ext cx="1742400" cy="99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заимодействие ОУ с организаци-ями всей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-альной сфе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AutoShape 29" descr=""/>
            <p:cNvPicPr/>
            <p:nvPr/>
          </p:nvPicPr>
          <p:blipFill>
            <a:blip r:embed="rId3"/>
            <a:stretch/>
          </p:blipFill>
          <p:spPr>
            <a:xfrm>
              <a:off x="227160" y="1664280"/>
              <a:ext cx="407520" cy="30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AutoShape 30"/>
            <p:cNvSpPr/>
            <p:nvPr/>
          </p:nvSpPr>
          <p:spPr>
            <a:xfrm>
              <a:off x="3485160" y="5546880"/>
              <a:ext cx="1141920" cy="99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рганизация мед. обслужи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1"/>
            <p:cNvSpPr/>
            <p:nvPr/>
          </p:nvSpPr>
          <p:spPr>
            <a:xfrm>
              <a:off x="8250840" y="2297160"/>
              <a:ext cx="374040" cy="3201840"/>
            </a:xfrm>
            <a:custGeom>
              <a:avLst/>
              <a:gdLst>
                <a:gd name="textAreaLeft" fmla="*/ 18000 w 374040"/>
                <a:gd name="textAreaRight" fmla="*/ 356040 w 374040"/>
                <a:gd name="textAreaTop" fmla="*/ 18000 h 3201840"/>
                <a:gd name="textAreaBottom" fmla="*/ 3183840 h 3201840"/>
              </a:gdLst>
              <a:ahLst/>
              <a:rect l="textAreaLeft" t="textAreaTop" r="textAreaRight" b="textAreaBottom"/>
              <a:pathLst>
                <a:path w="21600" h="184742">
                  <a:moveTo>
                    <a:pt x="3600" y="0"/>
                  </a:moveTo>
                  <a:arcTo wR="3600" hR="3600" stAng="16200000" swAng="-5400000"/>
                  <a:lnTo>
                    <a:pt x="0" y="181142"/>
                  </a:lnTo>
                  <a:arcTo wR="3600" hR="3600" stAng="10800000" swAng="-5400000"/>
                  <a:lnTo>
                    <a:pt x="18000" y="1847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КТ-инфраструк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2"/>
            <p:cNvSpPr/>
            <p:nvPr/>
          </p:nvSpPr>
          <p:spPr>
            <a:xfrm>
              <a:off x="2828880" y="398520"/>
              <a:ext cx="3017880" cy="67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ая школьная инфраструк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3"/>
            <p:cNvSpPr/>
            <p:nvPr/>
          </p:nvSpPr>
          <p:spPr>
            <a:xfrm>
              <a:off x="2243520" y="5693040"/>
              <a:ext cx="986040" cy="85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ит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4"/>
            <p:cNvSpPr/>
            <p:nvPr/>
          </p:nvSpPr>
          <p:spPr>
            <a:xfrm>
              <a:off x="875160" y="3976920"/>
              <a:ext cx="1661760" cy="1522800"/>
            </a:xfrm>
            <a:prstGeom prst="borderCallout2">
              <a:avLst>
                <a:gd name="adj1" fmla="val 18750"/>
                <a:gd name="adj2" fmla="val -8333"/>
                <a:gd name="adj3" fmla="val -12370"/>
                <a:gd name="adj4" fmla="val 5037"/>
                <a:gd name="adj5" fmla="val -84337"/>
                <a:gd name="adj6" fmla="val -13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земельные учас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зоны: спортивная, отдыха, хозяйственная, учебно-опытна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зеле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AutoShape 35"/>
            <p:cNvCxnSpPr/>
            <p:nvPr/>
          </p:nvCxnSpPr>
          <p:spPr>
            <a:xfrm flipH="1">
              <a:off x="361440" y="4749840"/>
              <a:ext cx="10440" cy="139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AutoShape 36"/>
            <p:cNvCxnSpPr>
              <a:endCxn id="66" idx="1"/>
            </p:cNvCxnSpPr>
            <p:nvPr/>
          </p:nvCxnSpPr>
          <p:spPr>
            <a:xfrm flipV="1">
              <a:off x="371880" y="6118200"/>
              <a:ext cx="234000" cy="2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AutoShape 37"/>
            <p:cNvCxnSpPr/>
            <p:nvPr/>
          </p:nvCxnSpPr>
          <p:spPr>
            <a:xfrm>
              <a:off x="1907280" y="6140520"/>
              <a:ext cx="336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AutoShape 38"/>
            <p:cNvCxnSpPr/>
            <p:nvPr/>
          </p:nvCxnSpPr>
          <p:spPr>
            <a:xfrm>
              <a:off x="3229560" y="6094080"/>
              <a:ext cx="225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AutoShape 39"/>
            <p:cNvCxnSpPr/>
            <p:nvPr/>
          </p:nvCxnSpPr>
          <p:spPr>
            <a:xfrm>
              <a:off x="4627440" y="614052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" name="AutoShape 40"/>
            <p:cNvCxnSpPr/>
            <p:nvPr/>
          </p:nvCxnSpPr>
          <p:spPr>
            <a:xfrm>
              <a:off x="6374880" y="6140520"/>
              <a:ext cx="25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" name="AutoShape 41"/>
            <p:cNvCxnSpPr/>
            <p:nvPr/>
          </p:nvCxnSpPr>
          <p:spPr>
            <a:xfrm>
              <a:off x="8539200" y="5500080"/>
              <a:ext cx="1080" cy="64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AutoShape 42"/>
            <p:cNvCxnSpPr/>
            <p:nvPr/>
          </p:nvCxnSpPr>
          <p:spPr>
            <a:xfrm>
              <a:off x="8367480" y="6140520"/>
              <a:ext cx="172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AutoShape 43"/>
            <p:cNvCxnSpPr>
              <a:endCxn id="69" idx="0"/>
            </p:cNvCxnSpPr>
            <p:nvPr/>
          </p:nvCxnSpPr>
          <p:spPr>
            <a:xfrm flipH="1">
              <a:off x="432360" y="690480"/>
              <a:ext cx="20880" cy="98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AutoShape 44"/>
            <p:cNvCxnSpPr/>
            <p:nvPr/>
          </p:nvCxnSpPr>
          <p:spPr>
            <a:xfrm>
              <a:off x="442440" y="690480"/>
              <a:ext cx="2350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AutoShape 45"/>
            <p:cNvCxnSpPr/>
            <p:nvPr/>
          </p:nvCxnSpPr>
          <p:spPr>
            <a:xfrm flipH="1" flipV="1">
              <a:off x="8433000" y="689760"/>
              <a:ext cx="10080" cy="157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AutoShape 46"/>
            <p:cNvCxnSpPr/>
            <p:nvPr/>
          </p:nvCxnSpPr>
          <p:spPr>
            <a:xfrm flipH="1" flipV="1">
              <a:off x="6000120" y="690120"/>
              <a:ext cx="2433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Прямая со стрелкой 50"/>
            <p:cNvCxnSpPr>
              <a:stCxn id="59" idx="2"/>
            </p:cNvCxnSpPr>
            <p:nvPr/>
          </p:nvCxnSpPr>
          <p:spPr>
            <a:xfrm flipH="1">
              <a:off x="4140360" y="2077560"/>
              <a:ext cx="396360" cy="20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" name="Прямая со стрелкой 52"/>
            <p:cNvCxnSpPr>
              <a:stCxn id="59" idx="2"/>
              <a:endCxn id="58" idx="1"/>
            </p:cNvCxnSpPr>
            <p:nvPr/>
          </p:nvCxnSpPr>
          <p:spPr>
            <a:xfrm>
              <a:off x="4536000" y="2077560"/>
              <a:ext cx="1317960" cy="33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Прямая со стрелкой 54"/>
            <p:cNvCxnSpPr>
              <a:stCxn id="59" idx="2"/>
            </p:cNvCxnSpPr>
            <p:nvPr/>
          </p:nvCxnSpPr>
          <p:spPr>
            <a:xfrm>
              <a:off x="4536000" y="2077560"/>
              <a:ext cx="62532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Прямая со стрелкой 56"/>
            <p:cNvCxnSpPr>
              <a:stCxn id="59" idx="2"/>
            </p:cNvCxnSpPr>
            <p:nvPr/>
          </p:nvCxnSpPr>
          <p:spPr>
            <a:xfrm>
              <a:off x="4537080" y="2077560"/>
              <a:ext cx="370080" cy="13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Прямая со стрелкой 58"/>
            <p:cNvCxnSpPr>
              <a:stCxn id="59" idx="2"/>
              <a:endCxn id="60" idx="3"/>
            </p:cNvCxnSpPr>
            <p:nvPr/>
          </p:nvCxnSpPr>
          <p:spPr>
            <a:xfrm flipH="1">
              <a:off x="3344400" y="2077560"/>
              <a:ext cx="1192680" cy="33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" name="Прямая со стрелкой 60"/>
            <p:cNvCxnSpPr>
              <a:endCxn id="61" idx="3"/>
            </p:cNvCxnSpPr>
            <p:nvPr/>
          </p:nvCxnSpPr>
          <p:spPr>
            <a:xfrm flipH="1">
              <a:off x="3812400" y="2114640"/>
              <a:ext cx="729720" cy="77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3" name="Прямая со стрелкой 62"/>
            <p:cNvCxnSpPr/>
            <p:nvPr/>
          </p:nvCxnSpPr>
          <p:spPr>
            <a:xfrm flipH="1">
              <a:off x="3958560" y="2114640"/>
              <a:ext cx="583920" cy="11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0A1E059-E7CB-4EAD-A517-1A73842B8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0" y="1092240"/>
          <a:ext cx="8844120" cy="4914720"/>
        </p:xfrm>
        <a:graphic>
          <a:graphicData uri="http://schemas.openxmlformats.org/drawingml/2006/table">
            <a:tbl>
              <a:tblPr/>
              <a:tblGrid>
                <a:gridCol w="2948040"/>
                <a:gridCol w="2948040"/>
                <a:gridCol w="294804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о-прогностическая деятельность. Организационно-исполнитель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у мониторинга развития сетевых форм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вместной деятельности и способов сетевого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я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 сетевого взаимодействия с потен-циальными партнерами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елью расширения спектра качественных образователь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переводе ОУ в автономное учрежден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вовлеченность всех субъектов сети в процесс разработки и принятия управленческих реш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ть в программах развит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ю средового подход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доровьесберегающая среда, ИКТ-среда. творческо-развивающая среда; адаптивная безбарьерная среда для детей ОВЗ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но-аналитическое сопровождение деятельности, мониторинг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бсуждение результатов изменений в сетевых формах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у  экспертно-аналитической деятель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учетом основных направлений реализации образовательной инициативы «Наша нов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B2F7288-3A3C-476A-A3D6-3A7AB19F1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299880" y="1092240"/>
          <a:ext cx="8361360" cy="4668840"/>
        </p:xfrm>
        <a:graphic>
          <a:graphicData uri="http://schemas.openxmlformats.org/drawingml/2006/table">
            <a:tbl>
              <a:tblPr/>
              <a:tblGrid>
                <a:gridCol w="2787840"/>
                <a:gridCol w="2786040"/>
                <a:gridCol w="2787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оцен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эффективным использованием возможностей школьной инфраструктуры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держание зданий; капитальный ремонт; питание; ИКТ в управлении и в образовательном процессе; здоровьесбережение; адаптивная безбарьерная среда для детей ОВЗ и др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е подходы к организации ВШК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сновы достижения современного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ть в ВШК диагностику затруднений учителей  и оказание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й практической помощи в использовании возможностей образователь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ть отчет муниципальных органов управления образованием по совершенствованию школьной инфра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контроль и оценку за эффективным использованием возможностей инфраструктуры ОУ; возможностей сетевого взаимодействия с учреждениями социальной сф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CC85ED-8278-4B0F-8854-093233F59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299880" y="1397160"/>
          <a:ext cx="8361360" cy="2460600"/>
        </p:xfrm>
        <a:graphic>
          <a:graphicData uri="http://schemas.openxmlformats.org/drawingml/2006/table">
            <a:tbl>
              <a:tblPr/>
              <a:tblGrid>
                <a:gridCol w="2787840"/>
                <a:gridCol w="2786040"/>
                <a:gridCol w="278748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о-коррекцион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своевременную корректировку деятельности ОУ по итогам диагностически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е проведение педагогических советов, совещаний по пробл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ть  практическую помощь ОУ по развитию инфраструктур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E6010CA-AD09-48FA-87A0-99435C3CC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36360" y="-28440"/>
            <a:ext cx="92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74520" y="42840"/>
            <a:ext cx="1689120" cy="13111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968200"/>
            <a:ext cx="8748720" cy="146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аша новая школа: современная шко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09080" y="1484280"/>
            <a:ext cx="3583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900" spc="-1" strike="noStrike">
                <a:solidFill>
                  <a:srgbClr val="003300"/>
                </a:solidFill>
                <a:latin typeface="Arial"/>
              </a:rPr>
              <a:t>ТЮМЕНСКИЙ ОБЛАСТНОЙ ГОСУДАРСТВЕННЫЙ ИНСТИТУТ</a:t>
            </a:r>
            <a:br>
              <a:rPr sz="900"/>
            </a:br>
            <a:r>
              <a:rPr b="1" lang="ru-RU" sz="900" spc="-1" strike="noStrike">
                <a:solidFill>
                  <a:srgbClr val="003300"/>
                </a:solidFill>
                <a:latin typeface="Arial"/>
              </a:rPr>
              <a:t>РАЗВИТИЯ РЕГИОНАЛЬНОГО ОБРАЗОВАНИЯ (ТОГИРРО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03640" y="5842080"/>
            <a:ext cx="554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илованова Наталья Геннадьевн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оректор ТОГИРРО, д.пед. 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C5E3CC5-FA0C-4B0D-A9A8-8C8F72874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372960" y="1808280"/>
            <a:ext cx="8507520" cy="4897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даптивно-развивающей безбарьерной сре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ециальные лифты и туалеты, пандусы, спе-циальное оборудование с учетом нарушений обучающихся, создание центров для дистанционной, модульной и коммуникационной форм обучения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ы динамического психолого-педагогического и медико-социального, а также юридического и волонтерского сопровож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ОВ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 учебного и реабилитационного процессов, материально-технического, кадрового, специального методического и реабилитационного сопровождения, механизмов лицензирования и сертификации образовательно-реабилитацио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 по поддержке интегрирован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322280" y="763560"/>
            <a:ext cx="67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ы создания адаптивной безбарьерной среды для обучения детей с ограниченными возможностям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9FFF815-45E7-4996-BB4B-DEA50A6C3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409680" y="1128600"/>
            <a:ext cx="8507160" cy="1716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составляющая инфраструктур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е только на разработку новых принципов проектирования, строительства школ, но и на изменение качества условий. Школьное пространство должно быть функционально и эстетически грамотно спроектировано, обеспечивать физическую и психологическую безопасность, не должно содержать рисков для здоровья. Для поддержания необходимой современной инфраструктуры школы необходимо повысить качество сервисного обслуживания самого здания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322280" y="28908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раструктуры обеспечения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46040" y="2844720"/>
            <a:ext cx="8507520" cy="1131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ую составляющую инфраструктур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ереориентировать на поддержку деятельности каждого учителя: наличие сервисов с доступом к различным методическим, информационным и консультационным ресурсам, личностно-ориентированный подход к методической работе в школе, анализу урока, индивидуальной поддержке уч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72960" y="4013280"/>
            <a:ext cx="8507520" cy="149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образовательная инфраструктур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школьное и внешкольное пространство и предполагает создание интегрированного пространства образования для разных категорий детей (школы, учреждения дополнительного образования, спортивные площадки и другие социальные сферы). Формирование городской социально-образовательной инфраструктуры должно быть направлено на  удовлетворение, формирование и обеспечение личностных потребностей детей, реализацию деятельностно-компетентностного под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36600" y="5546880"/>
            <a:ext cx="8507520" cy="1311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составляющая инфраструктур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а обеспечение высших образовательных достижений учителя и ученика, личностного и профессионального роста (ОДИ, городские проекты, конкурсы, олимпиады, технопарки)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твленную систему поиска, поддержки и сопровождения талантливых детей. Именно из них в будущем вырастут новые, известные миру российские конструкторы, ученые, деятели 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201BC61-B66D-48BA-9A3D-58150C9F5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372960" y="1808280"/>
            <a:ext cx="8507520" cy="3957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ацентр школ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нтр формирования и распространения опыта использования современных информационных технологий как в образовательном процессе, так и в управлении школ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льтимедиа-серв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ы - внутришкольный информационный сервис для учителей-предметников, классных руководителей и учащихся школы, а также для всех тех, кто интересуется соответствующими тематическими ресурсами и имеет доступ в локальную сеть школы или через Интернет.; это - тематизированный каталог школьных ресурсов в форматах текстовых, графических, аудио и видео фай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359000" y="1055520"/>
            <a:ext cx="67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ЬНЫЙ МЕДИА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75583F5-C724-4FC6-9C7C-4B5E090EC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372960" y="1808280"/>
            <a:ext cx="8507520" cy="3957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ИНФОРМАЦИОННЫЕ ТЕХНОЛОГИИ В ПРОЦЕССЕ УРОКА: РАЗРАБОТКА КОМПЬЮТЕРНОЙ ПОДДЕРЖКИ УРОКОВ С ИСПОЛЬЗОВАНИЕМ ПРОГРАМ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М. ПРИЛОЖЕНИЕ № 1); ИСПОЛЬЗОВАНИЕ ГОТОВЫХ ЦИФРОВЫХ ПРОДУКТОВ (ЭЛЕКТРОННЫЕ УЧЕБНИКИ, ЭНЦИКЛОПЕДИ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ТУАЛЬНЫЙ  «ПОРТФЕЛЬ УЧЕНИКА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КРЫТОЕ ТЕМАТИЧЕСКОЕ ПЛАНИРОВАНИ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А-ВЫСТУПЛЕНИЯ С ОПОРОЙ НА МУЛЬТИМЕДИА-ПРЕЗЕНТАЦИЮ, КОТОРЫЕ ПОВЫШАЮТ ЭФФЕКТИВНОСТЬ КОММУНИКАЦИИ ДОКЛАДЧИКА С АУДИТО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359000" y="105552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И ИНФОРМАТИЗАЦИИ ВОСПИТАТЕЛЬНО-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6137402-8FB7-4EDE-B626-98A8776A2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372960" y="1808280"/>
            <a:ext cx="8507520" cy="3957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НАУЧНЫЙ, ЭКОЛОГИЧЕСКИЙ ЭКСПЕРИМЕНТ, МАТЕМАТИЧЕСКОЕ ИССЛЕДОВАНИЕ НА КОМПЬЮТЕРНЫХ ПРАКТИКУМАХ С ИСПОЛЬЗОВАНИЕМ ВИРТУАЛЬНЫХ КОНСТРУКТОРОВ, ПОЗВОЛЯЮЩИЙ УЧАЩИМСЯ САМОСТОЯТЕЛЬНО СТРОИТЬ НАГЛЯДНЫЕ ИМИТАЦИОННЫЕ МОДЕЛИ ОБЪЕКТОВ И ПРОЦЕССОВ (ПРИРОДЫ, ЭКОНОМИКИ, ТЕХНИКИ) И ПРОВОДИТЬ ИССЛЕДОВАНИЯ, РЕЗУЛЬТАТЫ КОТОРЫХ ПОТОМ ОФОРМЛЯЮТСЯ В ВИДЕ ПЕРЕЧИСЛЕННЫХ ВЫШЕ МОД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БОТКА ТЕХНИЧЕСКИХ НАВЫКОВ, КОГДА КОМПЬЮТЕР ИСПОЛЬЗУЕТСЯ ДЛЯ ОТРАБОТКИ ДО УРОВНЯ АВТОМАТИЗМА ПСИХОФИЗИОЛОГИЧЕСКИХ РЕАКЦИЙ. ЗДЕСЬ ИСПОЛЬЗУЮТСЯ РАЗЛИЧНОГО РОДА ЭЛЕКТРОННЫЕ ТРЕНАЖЕ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ГРУЖЕНИЕ В ИНОСТРАННЫЙ ЯЗЫК ПРИ ПОМОЩИ СОВРЕМЕННЫХ КОМПЬЮТЕРНЫХ СРЕДСТВ, КОГДА ИЗУЧЕНИЕ ИНОСТРАННОГО ЯЗЫКА СОЧЕТАЮТ С "ПОГРУЖЕНИЕМ" В ЯЗЫКОВУЮ СРЕДУ С КОММЕНТАРИЯМИ И ПРОВЕРОЧНЫМИ ЗАДАНИЯ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359000" y="105552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И ИНФОРМАТИЗАЦИИ ВОСПИТАТЕЛЬНО-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3CF357E-A0CE-4145-8C08-DBE65819E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72960" y="1808280"/>
            <a:ext cx="8507520" cy="3957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НОЕ ТЕСТИРОВАНИЕ, Т.К. КОМПЬЮТЕР ЛЕГКО ПРЕВРАТИТЬ В ТЕСТОВУЮ ЛАБОРАТОРИЮ, ОЦЕНИВАЮЩУЮ ЗНАНИЯ УЧАЩИХСЯ, ГДЕ УЧИТЕЛЬ И УЧАЩИЕСЯ МГНОВЕННО ПОЛУЧАЮТ РЕЗУЛЬТАТ ТЕСТ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АНЦИОННОЕ КОНСУЛЬТИРОВАНИЕ, МЕТОДИЧЕСКАЯ ПОДДЕРЖКА, ПОВЫШЕНИЕ КВАЛИФИКАЦИИ, ПЕРЕПОДГОТОВКА ЧЕРЕЗ ИНТЕРНЕТ, КОТОРЫЕ ДАЮТ ВОЗМОЖНОСТЬ ИНДИВИДУАЛЬНОГО КОНТАКТА УЧАЩЕГОСЯ, УЧИТЕЛЯ С УЧЕНЫМ И МЕТОДИСТОМ ЦЕНТРОВ ДИСТАНЦИОННОГО ОБРАЗОВАНИЯ ФЕДЕРАЦИИ ИНТЕРНЕТ-ОБРАЗОВА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АНЦИОННОЕ ОБУЧЕ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1359000" y="105552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И ИНФОРМАТИЗАЦИИ ВОСПИТАТЕЛЬНО-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FB381FC-04EA-43EA-8167-3BF893DF0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4920" y="-63360"/>
            <a:ext cx="1189080" cy="923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403280" y="1125360"/>
            <a:ext cx="61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чего создается се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46040" y="1700280"/>
            <a:ext cx="8302680" cy="4789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оставление  учащимся старшей ступен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можности выбора профиля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енного необходимым оборудованием и высококвалифицированными кадрами для качественной реализации соответствующих образовательных программ по любому предмету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оставление  учащимся среднего и старшего звена возможн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ора индивидуальной образовательной траектор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ние и развит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тивных моделей образовательных учреждений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аботка и внедр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ременных информационно-коммуникационных технологий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ка нормативно-правовой документации, обеспечивающей право ученика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вертирование (признание и зачиты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учебных (образовательных) программ, освоенных им в се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ализация комплекса мероприятий, обеспечивающ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ственное участие в принятии решений по развитию се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5:02:29Z</dcterms:created>
  <dc:creator>Венера</dc:creator>
  <dc:description/>
  <dc:language>en-US</dc:language>
  <cp:lastModifiedBy>1</cp:lastModifiedBy>
  <dcterms:modified xsi:type="dcterms:W3CDTF">2009-08-19T19:01:07Z</dcterms:modified>
  <cp:revision>402</cp:revision>
  <dc:subject/>
  <dc:title>Банк данных</dc:title>
</cp:coreProperties>
</file>